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11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4AE-AF76-41FE-890E-3C7B2E82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B4C-3C16-42BD-8A3F-289663A5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7AA-286C-4D61-B65F-1BE93E35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1B4-6FE5-40BE-A1B2-596CFC04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D00-C025-4C49-ACEE-8C9E4559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C66-89DC-417A-937D-B3CC27CA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3CD-35CF-4F70-A2AC-86D94F81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74E-3671-4462-9E40-BDA2A448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777-8F90-462C-B895-085389BC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E3A-3FF4-42E7-A002-C2533074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3B1-9FF0-40AE-AE82-252E33C0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BDB-D21C-476F-8F84-2CF8EC5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Click to edit the title text format</a:t>
            </a: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2" marL="1143000" indent="-228600">
              <a:spcBef>
                <a:spcPts val="700"/>
              </a:spcBef>
              <a:buClr>
                <a:srgbClr val="00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Third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3" marL="1600200" indent="-228600">
              <a:spcBef>
                <a:spcPts val="700"/>
              </a:spcBef>
              <a:buClr>
                <a:srgbClr val="0000cc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Fourth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4" marL="2057400" indent="-228600">
              <a:spcBef>
                <a:spcPts val="700"/>
              </a:spcBef>
              <a:buClr>
                <a:srgbClr val="0000cc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Fifth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Sixth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empus Sans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Seventh Outline Leve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498A-4D26-45FE-A457-870DDB228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Gauging Student Needs</a:t>
            </a: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Laura McMillen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Berea High School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Intel 2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January 22, 2008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1470240" cy="2216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0800" y="3962520"/>
            <a:ext cx="2612880" cy="174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086600" y="533520"/>
            <a:ext cx="1727280" cy="259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11080" y="3650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28195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3808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85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571500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Works Cited</a:t>
            </a:r>
            <a:endParaRPr b="0" lang="en-US" sz="5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"Punnett Square Mendel Flowers."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empus Sans ITC"/>
              </a:rPr>
              <a:t>Wikimedia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. 5 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May 2007. 4 Feb. 2008 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&lt;http://commons.wikimedia.org/wiki/Image: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Punnett_square_mendel_flowers.svg&gt;.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Think Quest. "Pedigree Chart."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empus Sans ITC"/>
              </a:rPr>
              <a:t>The Science of 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empus Sans ITC"/>
              </a:rPr>
              <a:t>Genetics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. 15 Apr. 2005. 4 Feb. 2008 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&lt;http://library.thinkquest.org/C0110254/pedig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Tempus Sans ITC"/>
              </a:rPr>
              <a:t>ree_chart_copy.gif&gt;.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cc"/>
                </a:solidFill>
                <a:latin typeface="Tempus Sans ITC"/>
              </a:rPr>
              <a:t>How can we apply scientific skills, tools, and methods of inquiry to solve real-world problems?</a:t>
            </a:r>
            <a:r>
              <a:rPr b="0" lang="en-US" sz="4600" spc="-1" strike="noStrike">
                <a:solidFill>
                  <a:srgbClr val="0000cc"/>
                </a:solidFill>
                <a:latin typeface="Tempus Sans ITC"/>
              </a:rPr>
              <a:t> </a:t>
            </a:r>
            <a:endParaRPr b="0" lang="en-US" sz="46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545160" y="4627440"/>
            <a:ext cx="1824120" cy="125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66880" y="449568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43000" y="0"/>
            <a:ext cx="1657440" cy="216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848720" y="0"/>
            <a:ext cx="129528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5480" y="63244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17524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58672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How are biological traits passed to future generations?</a:t>
            </a:r>
            <a:r>
              <a:rPr b="0" lang="en-US" sz="4600" spc="-1" strike="noStrike">
                <a:solidFill>
                  <a:srgbClr val="0000cc"/>
                </a:solidFill>
                <a:latin typeface="Tempus Sans ITC"/>
              </a:rPr>
              <a:t>  </a:t>
            </a:r>
            <a:br>
              <a:rPr sz="4600"/>
            </a:br>
            <a:endParaRPr b="0" lang="en-US" sz="46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empus Sans ITC"/>
              </a:rPr>
              <a:t>How can we find out?</a:t>
            </a:r>
            <a:endParaRPr b="0" lang="en-US" sz="36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209680" y="259092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62320" y="510552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641520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64380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Tempus Sans ITC"/>
              </a:rPr>
              <a:t>Student Polling </a:t>
            </a:r>
            <a:r>
              <a:rPr b="0" lang="en-US" sz="3000" spc="-1" strike="noStrike">
                <a:solidFill>
                  <a:srgbClr val="0000cc"/>
                </a:solidFill>
                <a:latin typeface="Tempus Sans ITC"/>
              </a:rPr>
              <a:t>(Prior Knowledge)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69" name="j0424466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70" name="j0424474" descr=""/>
          <p:cNvPicPr/>
          <p:nvPr/>
        </p:nvPicPr>
        <p:blipFill>
          <a:blip r:embed="rId3"/>
          <a:stretch/>
        </p:blipFill>
        <p:spPr>
          <a:xfrm>
            <a:off x="3733920" y="2209680"/>
            <a:ext cx="1218960" cy="1285920"/>
          </a:xfrm>
          <a:prstGeom prst="rect">
            <a:avLst/>
          </a:prstGeom>
          <a:ln w="0">
            <a:noFill/>
          </a:ln>
        </p:spPr>
      </p:pic>
      <p:pic>
        <p:nvPicPr>
          <p:cNvPr id="71" name="j0424468" descr=""/>
          <p:cNvPicPr/>
          <p:nvPr/>
        </p:nvPicPr>
        <p:blipFill>
          <a:blip r:embed="rId4"/>
          <a:stretch/>
        </p:blipFill>
        <p:spPr>
          <a:xfrm>
            <a:off x="6934320" y="1981080"/>
            <a:ext cx="1361880" cy="1285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100620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empus Sans ITC"/>
                <a:ea typeface="Times New Roman"/>
              </a:rPr>
              <a:t>Directions:  Using 4 stickers, place one sticker on each line in the column that best describes your response to the question.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95240"/>
            <a:ext cx="176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95240"/>
            <a:ext cx="1606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6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657600"/>
            <a:ext cx="23619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80"/>
                </a:solidFill>
                <a:latin typeface="Tempus Sans ITC"/>
              </a:rPr>
              <a:t>No problem! Eas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3686040"/>
            <a:ext cx="274320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Tempus Sans ITC"/>
              </a:rPr>
              <a:t>Okay…a little unsur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289320"/>
            <a:ext cx="304812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Tempus Sans ITC"/>
              </a:rPr>
              <a:t>Not happening!  Need further</a:t>
            </a:r>
            <a:r>
              <a:rPr b="1" lang="en-US" sz="2600" spc="-1" strike="noStrike">
                <a:solidFill>
                  <a:srgbClr val="000000"/>
                </a:solidFill>
                <a:latin typeface="Tempus Sans ITC"/>
              </a:rPr>
              <a:t> explanat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692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80"/>
                </a:solidFill>
                <a:latin typeface="Tempus Sans ITC"/>
              </a:rPr>
              <a:t>Question 1: </a:t>
            </a:r>
            <a:r>
              <a:rPr b="0" lang="en-US" sz="2600" spc="-1" strike="noStrike">
                <a:solidFill>
                  <a:srgbClr val="008080"/>
                </a:solidFill>
                <a:latin typeface="Tempus Sans ITC"/>
                <a:ea typeface="Times New Roman"/>
              </a:rPr>
              <a:t>I can setup and report % for Punnett squares.</a:t>
            </a:r>
            <a:r>
              <a:rPr b="0" lang="en-US" sz="2600" spc="-1" strike="noStrike">
                <a:solidFill>
                  <a:srgbClr val="008080"/>
                </a:solidFill>
                <a:latin typeface="Tempus Sans IT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1498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33"/>
                </a:solidFill>
                <a:latin typeface="Tempus Sans ITC"/>
              </a:rPr>
              <a:t>Question 2: </a:t>
            </a:r>
            <a:r>
              <a:rPr b="0" lang="en-US" sz="2600" spc="-1" strike="noStrike">
                <a:solidFill>
                  <a:srgbClr val="ff9933"/>
                </a:solidFill>
                <a:latin typeface="Tempus Sans ITC"/>
                <a:ea typeface="Times New Roman"/>
              </a:rPr>
              <a:t>I understand how traits are passed through a family.</a:t>
            </a:r>
            <a:r>
              <a:rPr b="0" lang="en-US" sz="2600" spc="-1" strike="noStrike">
                <a:solidFill>
                  <a:srgbClr val="000000"/>
                </a:solidFill>
                <a:latin typeface="MarkingPe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07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80"/>
                </a:solidFill>
                <a:latin typeface="Tempus Sans ITC"/>
              </a:rPr>
              <a:t>Question 3: </a:t>
            </a:r>
            <a:r>
              <a:rPr b="0" lang="en-US" sz="2600" spc="-1" strike="noStrike">
                <a:solidFill>
                  <a:srgbClr val="008080"/>
                </a:solidFill>
                <a:latin typeface="Tempus Sans ITC"/>
                <a:ea typeface="Times New Roman"/>
              </a:rPr>
              <a:t>I can create &amp; read a pedigree.</a:t>
            </a: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9720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33"/>
                </a:solidFill>
                <a:latin typeface="Tempus Sans ITC"/>
              </a:rPr>
              <a:t>Question 4: </a:t>
            </a:r>
            <a:r>
              <a:rPr b="0" lang="en-US" sz="2600" spc="-1" strike="noStrike">
                <a:solidFill>
                  <a:srgbClr val="ff9933"/>
                </a:solidFill>
                <a:latin typeface="Tempus Sans ITC"/>
                <a:ea typeface="Times New Roman"/>
              </a:rPr>
              <a:t>I can use computers to blog, research, use diigo, and make a brochure.</a:t>
            </a:r>
            <a:r>
              <a:rPr b="0" lang="en-US" sz="2600" spc="-1" strike="noStrike">
                <a:solidFill>
                  <a:srgbClr val="ff9933"/>
                </a:solidFill>
                <a:latin typeface="Tempus Sans ITC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437920" y="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cc"/>
                </a:solidFill>
                <a:latin typeface="Tempus Sans ITC"/>
              </a:rPr>
              <a:t>How can I track inheritance of a trait in my family?</a:t>
            </a:r>
            <a:endParaRPr b="0" lang="en-US" sz="4600" spc="-1" strike="noStrike">
              <a:solidFill>
                <a:srgbClr val="0000cc"/>
              </a:solidFill>
              <a:latin typeface="Tempus Sans IT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2338560" cy="3276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3657600" cy="2568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952160" y="4800600"/>
            <a:ext cx="367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library.thinkquest.org/C0110254/pedigree_chart_copy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90520" y="2743200"/>
            <a:ext cx="3838680" cy="3838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6461280"/>
            <a:ext cx="513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upload.wikimedia.org/wikipedia/commons/thumb/1/17/Punnett_square_mendel_flowers.svg/550px-Punnett_square_mendel_flowers.svg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59568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ffice Word Clip 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3399"/>
                </a:solidFill>
                <a:latin typeface="Tempus Sans ITC"/>
              </a:rPr>
              <a:t>Round Robin Activity</a:t>
            </a:r>
            <a:endParaRPr b="0" lang="en-US" sz="6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91" name=""/>
          <p:cNvSpPr/>
          <p:nvPr/>
        </p:nvSpPr>
        <p:spPr>
          <a:xfrm rot="20646000">
            <a:off x="228600" y="1371240"/>
            <a:ext cx="2895480" cy="2362320"/>
          </a:xfrm>
          <a:prstGeom prst="foldedCorner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What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do you n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to creat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edigree?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0646000">
            <a:off x="6019560" y="1218960"/>
            <a:ext cx="2895480" cy="23619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How does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get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Ge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Harrington"/>
              </a:rPr>
              <a:t>disorder?</a:t>
            </a:r>
            <a:r>
              <a:rPr b="0" lang="en-US" sz="2800" spc="-1" strike="noStrike">
                <a:solidFill>
                  <a:srgbClr val="000000"/>
                </a:solidFill>
                <a:latin typeface="MarkingP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646000">
            <a:off x="6095520" y="3962160"/>
            <a:ext cx="2895840" cy="236196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What i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role of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gene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counselor?</a:t>
            </a:r>
            <a:r>
              <a:rPr b="0" lang="en-US" sz="2800" spc="-1" strike="noStrike">
                <a:solidFill>
                  <a:srgbClr val="000000"/>
                </a:solidFill>
                <a:latin typeface="MarkingP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0646000">
            <a:off x="3048120" y="1371240"/>
            <a:ext cx="2895480" cy="23623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empus Sans ITC"/>
              </a:rPr>
              <a:t>How would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empus Sans ITC"/>
              </a:rPr>
              <a:t>determine if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empus Sans ITC"/>
              </a:rPr>
              <a:t>offspring h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Tempus Sans ITC"/>
              </a:rPr>
              <a:t>genetic disor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0646000">
            <a:off x="304920" y="4038120"/>
            <a:ext cx="2895480" cy="2362320"/>
          </a:xfrm>
          <a:prstGeom prst="foldedCorner">
            <a:avLst>
              <a:gd name="adj" fmla="val 1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What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would a pa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of a chi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with a gene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empus Sans ITC"/>
              </a:rPr>
              <a:t>disease ask?</a:t>
            </a:r>
            <a:r>
              <a:rPr b="0" lang="en-US" sz="2800" spc="-1" strike="noStrike">
                <a:solidFill>
                  <a:srgbClr val="ccffcc"/>
                </a:solidFill>
                <a:latin typeface="MarkingP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0646000">
            <a:off x="3352320" y="4038120"/>
            <a:ext cx="2895840" cy="2362320"/>
          </a:xfrm>
          <a:prstGeom prst="foldedCorner">
            <a:avLst>
              <a:gd name="adj" fmla="val 125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empus Sans ITC"/>
              </a:rPr>
              <a:t>Should cou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empus Sans ITC"/>
              </a:rPr>
              <a:t>do genetic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empus Sans ITC"/>
              </a:rPr>
              <a:t>before conceiving?</a:t>
            </a:r>
            <a:r>
              <a:rPr b="0" lang="en-US" sz="2800" spc="-1" strike="noStrike">
                <a:solidFill>
                  <a:srgbClr val="000000"/>
                </a:solidFill>
                <a:latin typeface="MarkingP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cc"/>
                </a:solidFill>
                <a:latin typeface="Tempus Sans ITC"/>
              </a:rPr>
              <a:t>What would a parent/individual want to know about a genetic disorder?</a:t>
            </a:r>
            <a:endParaRPr b="0" lang="en-US" sz="46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520" y="3505320"/>
            <a:ext cx="2133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empus Sans ITC"/>
              </a:rPr>
              <a:t>Treatment</a:t>
            </a:r>
            <a:endParaRPr b="0" lang="en-US" sz="28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43434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Tempus Sans ITC"/>
              </a:rPr>
              <a:t>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41148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empus Sans ITC"/>
              </a:rPr>
              <a:t>Research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1055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empus Sans ITC"/>
              </a:rPr>
              <a:t>Signs of the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502920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empus Sans ITC"/>
              </a:rPr>
              <a:t>Suppor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586728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empus Sans ITC"/>
              </a:rPr>
              <a:t>Where to go for more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733920"/>
            <a:ext cx="5486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empus Sans ITC"/>
              </a:rPr>
              <a:t>How is the disorder inheri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2362320"/>
            <a:ext cx="732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ssible Brainstorming Ideas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empus Sans ITC"/>
              </a:rPr>
              <a:t>To Answer Our Questions We Need to…</a:t>
            </a:r>
            <a:endParaRPr b="0" lang="en-US" sz="4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9933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Tempus Sans ITC"/>
              </a:rPr>
              <a:t>Take on the role of a genetics counselor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Tempus Sans ITC"/>
              </a:rPr>
              <a:t>Create a questionnaire to interview the young couple that is expecting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9933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Tempus Sans ITC"/>
              </a:rPr>
              <a:t>Correspond with the couple through a blog &amp; relay information to our boss (teacher)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Tempus Sans ITC"/>
              </a:rPr>
              <a:t>Develop a pedigree chart of the couple’s medical history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empus Sans ITC"/>
              </a:rPr>
              <a:t>To Answer Our Questions We Need to…</a:t>
            </a:r>
            <a:endParaRPr b="0" lang="en-US" sz="4000" spc="-1" strike="noStrike">
              <a:solidFill>
                <a:srgbClr val="0000cc"/>
              </a:solidFill>
              <a:latin typeface="Tempus Sans IT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9933"/>
              </a:buClr>
              <a:buFont typeface="Tempus Sans IT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Tempus Sans ITC"/>
              </a:rPr>
              <a:t>Analyze the results of the couples’ blood test (karotyping lab) to determine if a mutation occurs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Tempus Sans IT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Tempus Sans ITC"/>
              </a:rPr>
              <a:t>Determine the probability of the offspring having the genetic disorder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9933"/>
              </a:buClr>
              <a:buFont typeface="Tempus Sans IT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Tempus Sans ITC"/>
              </a:rPr>
              <a:t>Create a brochure to inform the couple about the genetic disorder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Font typeface="Tempus Sans ITC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80"/>
                </a:solidFill>
                <a:latin typeface="Tempus Sans ITC"/>
              </a:rPr>
              <a:t>Submit artifacts &amp; findings to our boss &amp; the couple</a:t>
            </a:r>
            <a:endParaRPr b="0" lang="en-US" sz="3000" spc="-1" strike="noStrike">
              <a:solidFill>
                <a:srgbClr val="0000cc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9:26:45Z</dcterms:created>
  <dc:creator>Greenville Schools</dc:creator>
  <dc:description/>
  <dc:language>en-US</dc:language>
  <cp:lastModifiedBy>Greenville Schools</cp:lastModifiedBy>
  <dcterms:modified xsi:type="dcterms:W3CDTF">2008-03-04T21:17:06Z</dcterms:modified>
  <cp:revision>8</cp:revision>
  <dc:subject/>
  <dc:title>How can we apply scientific skills, tools, and methods of inquiry to solve real-world problems? </dc:title>
</cp:coreProperties>
</file>